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34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33.png" ContentType="image/png"/>
  <Override PartName="/ppt/media/image16.wmf" ContentType="image/x-wmf"/>
  <Override PartName="/ppt/media/image3.wmf" ContentType="image/x-wmf"/>
  <Override PartName="/ppt/media/image5.png" ContentType="image/png"/>
  <Override PartName="/ppt/media/image35.png" ContentType="image/png"/>
  <Override PartName="/ppt/media/image4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.2 - </a:t>
            </a:r>
            <a:fld id="{C98C58DE-BD72-4F60-9C6F-E68E1425A805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s of Exponent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 the following graphs of exponential functions and look for patterns i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881440"/>
            <a:ext cx="8915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002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ift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1400" y="2133720"/>
            <a:ext cx="2154240" cy="448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6990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2520" y="2849400"/>
            <a:ext cx="4114800" cy="3741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 – 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a reflection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followed by a reflection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and then a shif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98800" y="838080"/>
          <a:ext cx="4788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98800" y="838080"/>
                    <a:ext cx="4788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111320" y="3124080"/>
            <a:ext cx="180972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mone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 princip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grow to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ears at interest 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decimal form), compound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 per year, is given by th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124080" y="3429000"/>
          <a:ext cx="23367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429000"/>
                    <a:ext cx="2336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70972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function for the amount to which the investment grows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amount of money in the account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4, 8, and 10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ill the amount of money in the account reach $400,0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$100,000 is invested at 6.5% interest, compounded semian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13372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$100,00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5%=0.65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, we can substitute these values and write the follow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4114800"/>
          <a:ext cx="7342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4800"/>
                    <a:ext cx="7342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5238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graphing calculator with viewing window [0, 30, 0, 500,000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62320" y="2398680"/>
            <a:ext cx="48639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ompute function values using function notation on the home screen of a graphing calc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79600" y="2666880"/>
            <a:ext cx="4707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5238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so calculate the values directly on a graphing calculator by substituting in the expressio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460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100,000(1.032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0,000 and 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38480" y="2066760"/>
            <a:ext cx="5029200" cy="451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2057400"/>
            <a:ext cx="350532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we can do on the graphing calculator. Graph the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,000(1.032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use the intersect method to estimate the first coordinate of the point of inter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5238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 Or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,000(1.032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00,000 an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562360" cy="4267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" y="2057400"/>
            <a:ext cx="320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Zero method to estimate the zero of the function coordinate of the point of intersection. Regardless of the method, it takes about 21.67 years, or about 21 yr, 8 mo, and 2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Number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very special number in mathematics. Leonard Euler named this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mal representation of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terminate or repeat; it is an irrational number that is a consta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.7182818284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ach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 four decimal places,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 on a calcu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42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≈ 20.08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281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2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≈ 0.7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500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5500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≈ 2.71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2240" y="354636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Graphs of Exponential Functions, Base </a:t>
            </a:r>
            <a:r>
              <a:rPr b="0" i="1" lang="en-US" sz="3200" spc="-1" strike="noStrike">
                <a:solidFill>
                  <a:srgbClr val="3333ff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–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098800"/>
            <a:ext cx="8077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calculator and en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–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nter number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20920" y="2989440"/>
            <a:ext cx="4500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Graphs of Exponential Functions,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Base </a:t>
            </a:r>
            <a:r>
              <a:rPr b="0" i="1" lang="en-US" sz="3200" spc="-1" strike="noStrike">
                <a:solidFill>
                  <a:srgbClr val="3333ff"/>
                </a:solidFill>
                <a:latin typeface="Times New Roman"/>
              </a:rPr>
              <a:t>e -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638680"/>
            <a:ext cx="8077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56386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flection of the graph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920" y="1828800"/>
            <a:ext cx="4522680" cy="3541680"/>
            <a:chOff x="304920" y="1828800"/>
            <a:chExt cx="4522680" cy="354168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3389040" cy="35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2819520" y="1905120"/>
              <a:ext cx="200808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4267080" y="1828800"/>
            <a:ext cx="4818240" cy="3470400"/>
            <a:chOff x="4267080" y="1828800"/>
            <a:chExt cx="4818240" cy="3470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715000" y="1828800"/>
              <a:ext cx="3370320" cy="34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67080" y="2733840"/>
              <a:ext cx="222264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638680" y="3936960"/>
              <a:ext cx="381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554360" cy="4348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65280"/>
            <a:ext cx="76201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translation of the graph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ft 3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24019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565280"/>
            <a:ext cx="815328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orizontal stretching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llowed by a reflection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19080" y="2971800"/>
            <a:ext cx="2205000" cy="3460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724280" y="2657520"/>
            <a:ext cx="410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041800" y="1976400"/>
            <a:ext cx="4025880" cy="4653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462040" y="3352680"/>
            <a:ext cx="2338560" cy="325908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685800" y="1565280"/>
            <a:ext cx="8077320" cy="3235320"/>
            <a:chOff x="685800" y="1565280"/>
            <a:chExt cx="8077320" cy="3235320"/>
          </a:xfrm>
        </p:grpSpPr>
        <p:sp>
          <p:nvSpPr>
            <p:cNvPr id="211" name=""/>
            <p:cNvSpPr/>
            <p:nvPr/>
          </p:nvSpPr>
          <p:spPr>
            <a:xfrm>
              <a:off x="685800" y="1565280"/>
              <a:ext cx="80773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graph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1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 a horizon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2057400"/>
              <a:ext cx="4876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hrinking of the graph o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followed by a reflection across th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axis and then across th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3429000"/>
              <a:ext cx="1752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axis, followed by a translation up 1 uni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.2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onential Functions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d 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01028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exponential equations and exponential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pplied problems involving exponential functions and their 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onential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al numb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is called t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exponential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s to be positive in order to avoid the complex numbers that would occur by taking even roots of nega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are examples of exponential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00200" y="5334120"/>
          <a:ext cx="618660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334120"/>
                    <a:ext cx="6186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ing Exponent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raph an exponential function, follow th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some function values and list the results in a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the points and connect them with a smooth curve. Be sure to plot enough points to determine how steeply the curve r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exponent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3080" y="1676520"/>
            <a:ext cx="4749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257480"/>
            <a:ext cx="4775400" cy="4381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584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without bound.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 getting close to 0;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∞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19112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te.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puts decrease, the curve gets closer and closer to this line, but does not cros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27672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or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is 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993240"/>
            <a:ext cx="807732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exponentia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410080" y="762120"/>
          <a:ext cx="250200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762120"/>
                    <a:ext cx="2502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685800" y="1447920"/>
            <a:ext cx="5334120" cy="990360"/>
            <a:chOff x="685800" y="1447920"/>
            <a:chExt cx="5334120" cy="990360"/>
          </a:xfrm>
        </p:grpSpPr>
        <p:sp>
          <p:nvSpPr>
            <p:cNvPr id="112" name=""/>
            <p:cNvSpPr/>
            <p:nvPr/>
          </p:nvSpPr>
          <p:spPr>
            <a:xfrm>
              <a:off x="685800" y="1679400"/>
              <a:ext cx="99072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536840" y="1447920"/>
            <a:ext cx="4483080" cy="99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36840" y="1447920"/>
                      <a:ext cx="4483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>
            <a:off x="685800" y="263196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ells us the graph is the reflection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 Selected points are listed in th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86200" y="2286000"/>
            <a:ext cx="3989520" cy="4394160"/>
            <a:chOff x="3886200" y="2286000"/>
            <a:chExt cx="3989520" cy="4394160"/>
          </a:xfrm>
        </p:grpSpPr>
        <p:pic>
          <p:nvPicPr>
            <p:cNvPr id="117" name="" descr=""/>
            <p:cNvPicPr/>
            <p:nvPr/>
          </p:nvPicPr>
          <p:blipFill>
            <a:blip r:embed="rId7"/>
            <a:stretch/>
          </p:blipFill>
          <p:spPr>
            <a:xfrm>
              <a:off x="3886200" y="2286000"/>
              <a:ext cx="1460520" cy="43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5410080" y="2286000"/>
              <a:ext cx="2465640" cy="438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562720" cy="4219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19560" y="1371600"/>
            <a:ext cx="2895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the function values decrease, getting closer and closer to 0.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is the horizontal asymptote.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, the function values increase without b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20:10:57Z</dcterms:modified>
  <cp:revision>216</cp:revision>
  <dc:subject/>
  <dc:title>No Slide Title</dc:title>
</cp:coreProperties>
</file>